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E5E-DFD2-4AC5-A699-85A6DA92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41D-1E84-4F23-95E7-41A4DED8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C4A-6D18-4CD5-A292-A185D23B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0BC-277A-48C6-AD4B-9F49C85D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470-5C1F-4DF6-A3E3-207F5407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97E-DDD1-4860-93C7-8741F700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97A-5FBB-4840-9A83-78731D6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B67-AE05-4BB2-AC29-2BE0EEAC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108-B5FD-4C98-95A5-94907BE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170-731B-4E99-A978-A763013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FE2-A0A2-4427-9397-4F9A50D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60D-401B-4A69-AD70-01C059B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196-9197-4850-B852-896DC95A1546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hoton detector R&amp;D for Megaton water cherencov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 2007 May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54738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46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8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70836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435640" y="5373720"/>
            <a:ext cx="3384360" cy="125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23200" y="2421000"/>
            <a:ext cx="132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brid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2630520"/>
            <a:ext cx="66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44640"/>
            <a:ext cx="162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9600" y="4724280"/>
            <a:ext cx="352908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ow noise Preamp ASIC on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+ Q-T/waveform recoder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ifficult to finalize Mton detector system (incl. readout system) a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romise over performance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349360"/>
            <a:ext cx="20894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360" y="4365720"/>
            <a:ext cx="580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velopment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change information of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cussion of Mton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653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2520" y="4365720"/>
            <a:ext cx="17442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61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6520" y="5300640"/>
            <a:ext cx="216180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44280"/>
            <a:ext cx="547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7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88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00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69108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99cc00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651640" y="5373720"/>
            <a:ext cx="2916000" cy="107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1125360"/>
            <a:ext cx="3708360" cy="208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13000"/>
            <a:ext cx="3454560" cy="338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2916360" y="3212640"/>
            <a:ext cx="4564080" cy="936720"/>
          </a:xfrm>
          <a:prstGeom prst="leftRightArrow">
            <a:avLst>
              <a:gd name="adj1" fmla="val 50000"/>
              <a:gd name="adj2" fmla="val 96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6320" y="3141720"/>
            <a:ext cx="2872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4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&gt; 10^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8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~ 10^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FE-ASIC(MAROC2) with HPD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o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design based on the resul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2008 f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by us (collaboration between F-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402" t="24231" r="26768" b="36105"/>
          <a:stretch/>
        </p:blipFill>
        <p:spPr>
          <a:xfrm>
            <a:off x="4952880" y="1268280"/>
            <a:ext cx="4191120" cy="271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941720"/>
            <a:ext cx="201600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840" y="60213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ASIC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PD but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pixel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ve manpower for AS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oss measurements decreas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Japanese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cess new technologies (AMS 0.35um process) with low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French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now-how of construction of large water cherencov detector based on S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2:01Z</dcterms:created>
  <dc:creator>KEK</dc:creator>
  <dc:description/>
  <dc:language>en-US</dc:language>
  <cp:lastModifiedBy>J.E Campagne</cp:lastModifiedBy>
  <dcterms:modified xsi:type="dcterms:W3CDTF">2007-05-09T07:29:57Z</dcterms:modified>
  <cp:revision>11</cp:revision>
  <dc:subject/>
  <dc:title>New photon detector R&amp;D</dc:title>
</cp:coreProperties>
</file>